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D83-A023-45A3-A732-B8288EB0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F10-84AD-450A-8B31-DC04EE74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9C1AD7-51F0-454C-B209-8E3C04F3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D3FCB5-3765-4FE8-9193-7EABEA2D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6D4A0-1235-49DA-8EF1-F48A3E89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F237CD-9C61-41F7-8D1A-FF01642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5F97B-1386-4A91-9FD2-3D7CB825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6FA459-24F2-4B35-9D68-E1AC44D1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02146-16B3-44EA-90B6-F0789D2F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78128D-1562-4D17-A2F0-88412AC9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529FDD-CEC0-4CF2-B585-A51313F1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EAC34A-AD3C-456D-B960-E2C0A89A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2EA-D5F4-4647-9612-A25054F1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734388-5E30-4367-A3D2-D4A2C2F4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2EB9A1-3E20-47C4-BE1F-3E7F96CE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90860A-B88C-411F-BD07-E6714163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2B1792-5EA1-48A6-99E5-607E71F9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E62E59-52D1-4FA9-A7AF-E0097318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84F8F0-C147-49B2-B75E-BF15D2BD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6A6CF5-D2F4-4F46-89D8-64D293B9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A34C56-8323-4BF1-A880-3016F219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0EE85F-C11D-49F6-B4B4-4B40C0CF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AB43F1-C5AF-48CE-84D4-169B599D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379-CAB2-4C7C-AF9B-908AD650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17C202-930C-46E7-9E84-5BB4D472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E0DDA7-8A68-4905-8A23-26C34D18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370F1B-6D89-4550-8CDF-A62C7436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3AF2BE-887A-452C-81DF-D48DD372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CB3F5B-949C-43DD-8509-D3D00E79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F32DF5-73F4-4CFF-9B2E-7F90C241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2D5B7E-58EF-412B-83BB-99155D03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5CEC05-38F6-4119-8452-650F552B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4EFD9C-446F-4B54-901E-9869A82A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FA8D86-9EE0-4639-A427-A05A6FFF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BB3F2-2114-4265-A405-E88EE0ADA8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F18F64-4540-481F-AB0B-8562FE84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DC2A51-916B-4F62-BF5E-1B5A8195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9DAACD-A690-4597-ACDD-A726868B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662CBE-9565-4B96-9F63-C603E182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71B7CD-2B3F-4EEC-8F88-ED67030C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AEBBDE-158E-426B-8486-A52B12ED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C5DE9C-CC9D-4E27-BE10-78AC358C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9D6C39-1B2C-463F-817F-A53A7774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E2B526-AF90-4C9F-A7CF-93D41F08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576CE2-4A6E-4846-B716-C4C375E4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E837F-42C5-4802-A3F0-A480A4E2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E8E9DD-D783-4447-9C90-7B29B9F3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DD8314-AE65-4D51-9460-C43BA178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76492C-ED51-40CA-BEDC-EEF9CFF1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D021DD-1612-4900-8F30-D8FDD801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5FBE91-42E1-4548-A459-1CF2BA04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75A463-A853-403E-9E80-944AEC0C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630CE3-A56A-4E38-B60B-CF64D9C1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26EFFC-8700-41DE-86FA-2388F301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236405-1462-4411-896B-E36195B3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E86FFC-BA78-4B56-B233-05EC16BF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9523E-716A-452D-8228-6A0B2DEA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CAF551-0D4B-4025-A4B3-40156120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3AFF05-62C5-4A24-BCDD-9A5A67DD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22E412-4775-4891-89D5-7DDBC950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D7D391-6934-42DC-8061-95627CD5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7DF9DD-C9DE-4732-B0C4-64B4C7E0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E12F73-4A58-434F-8FCB-EE83C395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7A4AB7-2B04-47A8-B762-19B144FB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A0C9E1-6274-441E-BD60-1CA588A2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88FBD0-2E25-48CE-B02A-5C8DD904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5E3445-3BD5-49CD-B8F0-9F6E6488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D71BB-8765-4618-B85A-0434EAA1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FB4A32-D4F9-4BFF-9A82-A469488C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C19481-4595-41D8-A59D-914BD5C9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1E1196-43B7-4FF8-836B-D97639F9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30613C-274F-420A-A9A1-60BD0EB2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4ED4D9-91B4-4AB0-A743-4D330DDA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47C308-E7BB-4DFB-A6FF-392580E8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FC961A-FEEF-4698-91DC-C240AA03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06CBC7-A6A5-486A-8236-29AC0214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D90F8D-A214-4C08-8C6B-D736FB4B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B84DFB-1C73-47F0-8FEE-7A2A3300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B13A2-0DE1-4892-B83F-3A92E86B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4DC31C-2B5C-4C98-81AC-CC652844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4EEF2F-6FBC-4089-AE2E-58BC455C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7CC725-307E-4FC5-B76A-2DA81947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A81D02-9523-466C-A25D-855A9162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B259A4-CA68-4B0D-A4D1-F0F6AED9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FDE2BA-2A37-49A7-96AE-BAE9E1A7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94F520-396C-45A4-B6AD-BFCE4098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C4B1B2-0D18-444E-8259-6E4C1394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61E84B-9B0B-4205-87BB-9FAB95DD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76FA61-BB0B-4118-A95F-74574083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E0C7E-5FF8-4A1C-BFA7-02C09A38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6FF510-AEC0-4CB7-BA65-4F187B02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3F70D2-7067-4001-8B8F-BA75B4C091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D4EE9E9-908B-4C26-8C65-8AC16C18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531A59-AF00-48A9-8AB5-1ACC2DD4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2817C2-0A0E-4414-AC6B-516A93DB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9E00BE-FBDE-487F-A5E0-A62990E1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F9B6E6D-3926-4D40-BBD2-207E548D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E46875-B986-41A4-A09D-6BF43620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9A5E52-CC3C-4BA5-B16A-5451519A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071740-A822-4749-8523-37F0A822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5ACF0-1516-4756-AFC4-B31805E5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EEDA8B-CA6D-43B3-9271-A0C67117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FD6778-4743-4274-8D36-95404592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628FC0-FF18-4B76-92AA-C5E2B5EFF3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B38-DB53-42D5-A494-DB10D8CB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9A2A5-76EC-4FFC-A421-A32A8DA1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72746-1FF9-4975-806F-9A042CE5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8CD42-3658-4A77-87CD-A0E2F473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16CB1-1548-417B-ACDF-E92CC32B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D1985-0094-4931-A730-51BD1AEB9E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D280A-A820-4870-BE8C-DE66DB10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86868-3EA0-4F3F-82EA-B90E7921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5FF9C-93FD-4754-AE3F-369D4D6F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16C91-F2C0-404D-9D09-78AAEEE6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19218-48BE-4F60-8164-32A81921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17D-F12E-437C-A835-11F82F53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664B9-B9B1-4A7F-84EE-C8FA9672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34FC8-4BDF-448A-98B9-8CBE2E4F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64E64-4440-4611-9960-073C0967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E5A79-124A-4223-B13D-7DB87CB2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95D59-FB09-4503-97BF-98035539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E5E4E-08CE-4FEC-B812-4284C9AE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11269-BFFB-4A6E-ACF2-6493C863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FC4-93DC-4E1E-B361-047C3990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A8B-F0E4-4402-9D28-0169057F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40B-3F64-4E9D-B0EE-2541328E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4F24D-4C3B-44F4-BE9E-FEC899E0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25B47F-B76F-49D7-92C1-D4B1934A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6270F3-123B-446C-96A0-2241AB89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6650D-78F4-4C07-AD9B-DDF4854E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833063-B6CC-454D-ACF4-4381B5E9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57B11D-7C25-44D9-A950-2995AAE6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B5F63-AECB-4508-B9FF-076E047C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E9409C-ADE5-404C-8FFC-E2D3564C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800D30-96BB-42D6-997F-2F0D34A0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21F-7958-4E1F-9283-66816661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201076-076F-48CC-AA30-88302980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CD49B-95F1-43D6-93E2-F61E41DF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7C031-4683-4BFF-87B4-534EBBB8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0C082A-B73E-4A18-829A-6A6F3763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7FDFA-BA03-4665-AF4F-36EAF0FF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21807-E08D-4FCA-A15C-C9DAAA0E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224DA-A7B2-40C1-8228-52CE8CFE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EB4816-59FB-4F09-831B-00EE753A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70EC15-F237-4081-A961-AA3FEF40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44519-656C-4C34-86CC-57967795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470-00CB-403F-A770-3FCB9248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7D78B3-BCDC-4D44-BF28-DD92E904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860E1-74D4-4C7F-B4FA-1B9799A0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AE10E-E57F-43A4-8A4D-60FED15F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BB0F5-3EFF-41FD-B13B-B83FB24E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B40EC-D39C-4BC4-881E-D4F07B1E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998713-8230-4059-99D5-0044B3B1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B8EB8-84FE-4598-B771-89708B16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200C3-62C4-4AC7-B0DD-A0A132FE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D04B1-ABC7-480A-9133-57571382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0D97F-D263-4B87-B05D-9D171B1E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7CC-8356-49CA-B441-A2D1ABCF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AB491-9250-48A1-BF0A-D15F472F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5878F-3494-4B90-AA20-535CF8B3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D26D7-D6EC-4B0B-A27F-40633F40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B03F0-8A92-40EB-A87E-67F1C8A0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1280BA-5B7C-4283-B99F-6C6C7C49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F2D1D-7831-4AEA-A477-52C32B4D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904FE8-52BE-4BCC-8D7A-EDBE60DF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34D43B-A243-476E-B4FE-4EA05C04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7919A-7957-4813-BE1A-325F6E0B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173C5-E08F-4014-AA52-E9C24C92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D7A5-D606-4EA7-9C9A-C32984B2A0A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448C-9B9B-4706-A704-02A0D8383E6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86B0-4577-4F58-9E67-A7D86A152822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3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88BC-70EC-495F-B7B8-82D4883CF5B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8F6E-E4A2-4A82-97C2-A9DEB06FFBB7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26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9E70-7C2B-4D5E-9043-FDAF54BB74D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BFBC-1AC5-4B76-9F57-9B07FEA30EB2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29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F7C2-17FA-49BB-AFF9-22EE9B65024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253A-1989-4AB7-A693-E4B97A57346B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559B-8A92-42EE-AF6B-3D52E4191A1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B57A-0946-4B9E-8CCC-B9E706CCA72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9348-B152-4F3F-9B12-119678AFC05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E9FA-6FC7-445A-B679-78DF8B296CAC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8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D842-CF0E-4884-9213-3B5F225CDDD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3C1E-7E6A-4C73-A5F3-4C296A60D0AF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40"/>
          </p:nvPr>
        </p:nvSpPr>
        <p:spPr>
          <a:xfrm>
            <a:off x="385128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4F82-6E92-49EB-9C2F-92289E7E446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767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769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1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2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3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4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5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6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7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8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9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0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1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2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3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4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5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6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7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8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9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0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1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2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3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4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5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6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7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8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9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0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7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8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9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0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3D5E-E4F8-46E7-9F36-5869B3FC3EA6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5CA5-4043-400B-81B6-6D489522BF3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0E3E-A65D-4554-8727-2C61C06513D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7273-7012-4D68-A5FF-18F9EAEAB2B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29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31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5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0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1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2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3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4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5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6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7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8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9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0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1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2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3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4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5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6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7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8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9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0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1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2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3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4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5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6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7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8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212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214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6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7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8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9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0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1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2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3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4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5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6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7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8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9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0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1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2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6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7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8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9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0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1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2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3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4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5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6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7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8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9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0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1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2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3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4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5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6CAC-AA9F-4865-8079-067D7692DF0F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1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C353-7DB3-4D03-B895-5CA8F54A7BD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DFD2-5470-4CC1-9152-2069FAF03706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4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F570-C55E-4A4D-9746-4F88F5D8FCE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6250-25E1-48BD-A613-905BDD569C2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7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E47C-0E51-48A6-A2A7-7867EF04F2D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85A3-E473-4987-8F8A-E31208C3B14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1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0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B68D-FC68-4F63-BD64-8888673E0F5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58920" y="3271320"/>
            <a:ext cx="554508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Eskom CentralEast Supplier Development Localization and Industr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3082680" y="4092480"/>
            <a:ext cx="554508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71"/>
                </a:solidFill>
                <a:latin typeface="Arial"/>
              </a:rPr>
              <a:t>Klipspruit Substation Clarification Meeting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71"/>
                </a:solidFill>
                <a:latin typeface="Arial"/>
              </a:rPr>
              <a:t>29 March 2022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L&amp;I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36320" y="1125000"/>
            <a:ext cx="852804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896"/>
                </a:solidFill>
                <a:uFillTx/>
                <a:latin typeface="Arial"/>
                <a:ea typeface="Times New Roman"/>
              </a:rPr>
              <a:t>B-BBEE REQUIREMENTS: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This enquiry is open to BBBEE 1 - 4 Service Providers i.e.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EME 1 - 4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QSE 1 - 4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LME 1 - 4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896"/>
                </a:solidFill>
                <a:uFillTx/>
                <a:latin typeface="Arial"/>
              </a:rPr>
              <a:t>All Tenderers can submit proof of their BBBEE Status: 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EME - Valid copy of  Sworn Affidavit or valid copy of BBBEE Certificate issued by CIPC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QSE - Valid copy of Sworn Affidavit/ Valid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ertified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copy of BBBEE Certificate issued by a SANAS                 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     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ccredited verification agency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LME - Valid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ertified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copy of BBBEE Certificate issued by a SANAS                 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     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ccredited verification agency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Joint Ventures - Valid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ertified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copy of BBBEE Certificate issued by a SANAS Accredited        verification agency</a:t>
            </a: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  - </a:t>
            </a:r>
            <a:r>
              <a:rPr b="0" lang="en-ZA" sz="1400" spc="-1" strike="noStrike">
                <a:solidFill>
                  <a:srgbClr val="003896"/>
                </a:solidFill>
                <a:latin typeface="Arial"/>
              </a:rPr>
              <a:t>the certificate must be in the name of the joint venture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152B-1F4C-4FCC-B71A-B7650825C69B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1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4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D749-2F6D-4A93-B682-C324974F649D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Elements of  B-BBEE Sworn Affidav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36680" y="981000"/>
            <a:ext cx="8378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Tenderers submitting B-BBEE Sworn Affidavits must ensure that the affidavits meet the following key pointers to ensure their validity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a) Name/s of deponent as they appear in the identity document and the identity number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)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esignation of the deponent as the director, owner or member must be indicated in order to know that person is duly  authorized to depose of an affidavit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Underline or circle </a:t>
            </a:r>
            <a:r>
              <a:rPr b="1" lang="en-ZA" sz="1200" spc="-1" strike="noStrike">
                <a:solidFill>
                  <a:srgbClr val="003896"/>
                </a:solidFill>
                <a:latin typeface="Arial"/>
              </a:rPr>
              <a:t>whichever is applicable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c) Name of enterprise as per enterprise registration documents issued by the CIPC, where applicable, and enterprise business address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) Percentage of black ownership, black female ownership and designated group. In the case of specialised enterprises as per Statement 004, the percentage of black beneficiaries must be reflected. (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No blank spaces to be left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e)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Indicate total revenue for the year under review and whether it is based on audited financial statements or financial statements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Underline the applicable option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f)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Financial year end as per the enterprise’s registration documents, which was used to determine the total revenue. (Financial year end to be stipulated by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day/month/year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g) B-BBEE Status level. An enterprise can only have one status level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h) Empowering supplier status must be indicated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i)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ate deponent signed and date of Commissioner of Oath must be the same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The sworn Affidavit must be signed in    the presence of the Commissioner of Oath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j) Commissioner of Oath cannot be an employee or ex officio of the enterprise because, a person cannot by law, commission a sworn affidavit in which they have an interest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K) Sworn Affidavits attested / signed by a Commissioner of Oaths as a true copy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stamp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will not be accepted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7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EBFD-72B2-4187-9D64-FF964E17368D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1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3949-1799-492D-8D6E-F395166A4A4B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a BBBEE Certificate for Exempted Micro Enterp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0" name="Content Placeholder 5" descr=""/>
          <p:cNvPicPr/>
          <p:nvPr/>
        </p:nvPicPr>
        <p:blipFill>
          <a:blip r:embed="rId1"/>
          <a:stretch/>
        </p:blipFill>
        <p:spPr>
          <a:xfrm>
            <a:off x="2828880" y="1436760"/>
            <a:ext cx="3594240" cy="5045040"/>
          </a:xfrm>
          <a:prstGeom prst="rect">
            <a:avLst/>
          </a:prstGeom>
          <a:ln w="0">
            <a:noFill/>
          </a:ln>
        </p:spPr>
      </p:pic>
      <p:sp>
        <p:nvSpPr>
          <p:cNvPr id="861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C854-F7B8-475F-BA20-50E45035CEBB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1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2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9ADF-47F8-436A-A5BB-7618416306E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a BEE Certif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537B-0327-4C68-8FA3-5F63426D396E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1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5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7AE2-385F-41B5-8A68-3BC2BA0227B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866" name="Content Placeholder 7" descr=""/>
          <p:cNvPicPr/>
          <p:nvPr/>
        </p:nvPicPr>
        <p:blipFill>
          <a:blip r:embed="rId1"/>
          <a:stretch/>
        </p:blipFill>
        <p:spPr>
          <a:xfrm>
            <a:off x="2676600" y="1436760"/>
            <a:ext cx="3898800" cy="504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lls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EAAC-51EA-4A58-95C6-4ED9A81ACAC5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1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9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81EC-DD9F-47FD-8D60-EA8D6A4F3FD0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Bricklaying and Plastering   -  2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Plumbing Certificate    -  2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Contractors Letter to Commitment to SD &amp; L Requirements to be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signed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IPC Documen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hareholder’s Certificate/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Identity Documents of Owner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Jobs Created and Retained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82C7-7122-450D-A3EC-2385A2E35FD4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1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4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3F5C-D063-4F6E-981D-FF10B9187BD8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Thank You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6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BA31-4FDB-40DF-93CB-31C30831BE04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1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7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29D5-8C9F-41D0-AC62-B5231C40DE7C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TCH bonisa</dc:creator>
  <dc:description/>
  <dc:language>en-US</dc:language>
  <cp:lastModifiedBy>Derna Edmund</cp:lastModifiedBy>
  <cp:lastPrinted>2018-11-13T06:26:01Z</cp:lastPrinted>
  <dcterms:modified xsi:type="dcterms:W3CDTF">2022-03-29T14:16:43Z</dcterms:modified>
  <cp:revision>8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dd17a35c-9c67-4dda-b948-74ee3b80cf57_Application">
    <vt:lpwstr>Microsoft Azure Information Protection</vt:lpwstr>
  </property>
  <property fmtid="{D5CDD505-2E9C-101B-9397-08002B2CF9AE}" pid="3" name="MSIP_Label_dd17a35c-9c67-4dda-b948-74ee3b80cf57_Enabled">
    <vt:lpwstr>True</vt:lpwstr>
  </property>
  <property fmtid="{D5CDD505-2E9C-101B-9397-08002B2CF9AE}" pid="4" name="MSIP_Label_dd17a35c-9c67-4dda-b948-74ee3b80cf57_Extended_MSFT_Method">
    <vt:lpwstr>Manual</vt:lpwstr>
  </property>
  <property fmtid="{D5CDD505-2E9C-101B-9397-08002B2CF9AE}" pid="5" name="MSIP_Label_dd17a35c-9c67-4dda-b948-74ee3b80cf57_Name">
    <vt:lpwstr>Public</vt:lpwstr>
  </property>
  <property fmtid="{D5CDD505-2E9C-101B-9397-08002B2CF9AE}" pid="6" name="MSIP_Label_dd17a35c-9c67-4dda-b948-74ee3b80cf57_Ref">
    <vt:lpwstr>https://api.informationprotection.azure.com/api/93aedbdc-cc67-4652-aa12-d250a876ae79</vt:lpwstr>
  </property>
  <property fmtid="{D5CDD505-2E9C-101B-9397-08002B2CF9AE}" pid="7" name="MSIP_Label_dd17a35c-9c67-4dda-b948-74ee3b80cf57_SetBy">
    <vt:lpwstr>EdmundDH@eskom.co.za</vt:lpwstr>
  </property>
  <property fmtid="{D5CDD505-2E9C-101B-9397-08002B2CF9AE}" pid="8" name="MSIP_Label_dd17a35c-9c67-4dda-b948-74ee3b80cf57_SetDate">
    <vt:lpwstr>2020-11-26T14:18:48.2663455+02:00</vt:lpwstr>
  </property>
  <property fmtid="{D5CDD505-2E9C-101B-9397-08002B2CF9AE}" pid="9" name="MSIP_Label_dd17a35c-9c67-4dda-b948-74ee3b80cf57_SiteId">
    <vt:lpwstr>93aedbdc-cc67-4652-aa12-d250a876ae79</vt:lpwstr>
  </property>
  <property fmtid="{D5CDD505-2E9C-101B-9397-08002B2CF9AE}" pid="10" name="Sensitivity">
    <vt:lpwstr>Public</vt:lpwstr>
  </property>
</Properties>
</file>